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33C3-6F4F-4DF6-B202-23A867B8B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85B4-5B2B-4D05-8D11-3AB3C1B64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3A08-1BDD-49E5-92D9-8FAAAFEEE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0710-04F0-4A25-8660-E3F79778C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382A-BA93-4F82-A739-A007C5B94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89FB-7058-4CE3-A65B-7F81495BA0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A0D80-302F-435B-B718-CD499933B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AF0E-FCBC-455F-A5B5-B7B56C130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D7B4D-6478-4CC5-A494-731B4C20E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C7400-7234-4D72-B071-D81923FBBC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AE70C-ED49-42F2-A532-DF69EDC8D8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FFD0A-DE58-49DA-9F1F-A0E298A382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2E453-1C25-4B79-AB27-670031836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1BA31-C05C-40AB-9B47-F1DF2B123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0BB54-DFB1-4D6C-AB50-CE014C333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428D8-465F-49FD-B8E8-2CC92305B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5D077-D534-4D7B-93AE-12AB39497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5038-1E99-4F74-BFF8-59FC8DD07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9-05-04T21:38:14Z</dcterms:modified>
  <cp:revision>91</cp:revision>
  <dc:subject/>
  <dc:title>AT Basic System Example</dc:title>
</cp:coreProperties>
</file>