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BC50-1965-4E10-906E-201EE10C5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CBF6A-05FE-4C7D-BF35-79ED7F8674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611A4-19B3-4EB5-B67C-2B4A09BF40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E39FA-D168-457E-A122-259AA678C5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455D0-1040-4078-83E7-60E14CA133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B87AE-87C5-46AB-A37E-9D2594A7AC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557F1-31D0-4BDC-B476-379D61EE73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690F1-AF24-4F8A-8625-5B0FC3B357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F3841-BBB6-4248-9AE1-C83754068D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DA8B1-5B11-4010-91AB-76938B0B8E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F20B0-928B-43FE-AE93-C020267037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BC304-C0A2-4CEE-A646-8364DAB2AB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4F4A5-F6FD-4448-B9FD-40B4280D02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FB46-9C71-4FBC-B738-5920D477E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59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3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6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0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4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7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 </cp:lastModifiedBy>
  <dcterms:modified xsi:type="dcterms:W3CDTF">2009-02-07T17:01:47Z</dcterms:modified>
  <cp:revision>62</cp:revision>
  <dc:subject/>
  <dc:title>TLM2</dc:title>
</cp:coreProperties>
</file>